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768-C9A7-45F0-8AC9-A4E1876C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6D4-2EB8-45DE-AF64-E82CA32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32B-6978-47D8-B33A-6FB43CF3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85F-A29A-48B9-850E-569FA728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CDD-2FB7-44F2-804E-694D04B3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1B8-5E06-4008-B3A9-6AED456B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72E-CAF9-4350-ADB3-54A9763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6E1-F6B7-4468-80F9-D3654492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18A-928F-4733-93C0-2C9E021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68E-CC19-4D5F-84BA-E9A153E8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6BF-6B0E-40AE-BD88-45BC64C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1E3-A290-457F-BCE3-7E59C4D2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E828-7764-430A-AC12-C459DA701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3141720"/>
            <a:ext cx="6697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Повышение качества образования в условиях реализации комплексного проекта модернизации образования (КПМО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5105520"/>
            <a:ext cx="48974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 «Управление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И. Вес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равнение результатов по год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507520" cy="5075280"/>
        </p:xfrm>
        <a:graphic>
          <a:graphicData uri="http://schemas.openxmlformats.org/drawingml/2006/table">
            <a:tbl>
              <a:tblPr/>
              <a:tblGrid>
                <a:gridCol w="4762440"/>
                <a:gridCol w="1152720"/>
                <a:gridCol w="1390680"/>
                <a:gridCol w="1201680"/>
              </a:tblGrid>
              <a:tr h="206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ыпускники 11-х клас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певаемость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чество знаний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5,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9,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2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Успеваемость и качество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4076280"/>
            <a:ext cx="882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ысокие результаты в лицее «Эрудит», «Истоки», гимназии «Планета Детств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№№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,8, «Лицее», школах №№ 6, 1, 26,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трицательная динамика по всем параметрам в школе №13, по качеству знаний – в школе №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484280"/>
          <a:ext cx="8229600" cy="22222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2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спеваемость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ачество знаний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9,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1,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1,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3,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чителя, подготовившие победителей и призеров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краевого) этапа Всероссийской олимпиады школьников по общеобразовательным предметам в 2008/2009 учеб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2637000"/>
          <a:ext cx="8362800" cy="3992400"/>
        </p:xfrm>
        <a:graphic>
          <a:graphicData uri="http://schemas.openxmlformats.org/drawingml/2006/table">
            <a:tbl>
              <a:tblPr/>
              <a:tblGrid>
                <a:gridCol w="5133960"/>
                <a:gridCol w="3228840"/>
              </a:tblGrid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ыстрова Лидия Александро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имназия №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обровская Елена Василье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ицей «Эруди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енисенко Татьяна Владимиро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Лицей «Эрудит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иголева Наталья Василье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латета Дет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гель Ольга Владимиров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Ш №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Курсовая подготов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2260440"/>
        </p:xfrm>
        <a:graphic>
          <a:graphicData uri="http://schemas.openxmlformats.org/drawingml/2006/table">
            <a:tbl>
              <a:tblPr/>
              <a:tblGrid>
                <a:gridCol w="5122800"/>
                <a:gridCol w="3106800"/>
              </a:tblGrid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ентябрь-Декабр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21 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Январь – 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92 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260280"/>
          <a:ext cx="8713800" cy="5648400"/>
        </p:xfrm>
        <a:graphic>
          <a:graphicData uri="http://schemas.openxmlformats.org/drawingml/2006/table">
            <a:tbl>
              <a:tblPr/>
              <a:tblGrid>
                <a:gridCol w="2478240"/>
                <a:gridCol w="2771640"/>
                <a:gridCol w="3463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м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Опыт государственно-общественного управления О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Ассоциация родителей     «ДАР»   гимназии     «Планета Детства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МОУ Лицей «Эрудит», директор Иванова Н.Т., зам. дир. Денисенко Т.В.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Развитие единой информационно- образовательной среды в О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Лицей «Эрудит Иванова Н.Т., директор, Ерофеев К.В.  зам. дир.по информат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Организация экспериментальной деятельности педагогов во всех типах общеобразовательных учрежд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рофеев  К.В. зам. дир. МОУ «Лицей «Эрудит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СОШ №10», директор Смирнова О. Н., Костюшова Л.А. зам. дир., Руденко Т.И. педагог-психолог, Сергеев В.П. инструктор-методист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Сохранение, укрепление и формирование здоровья учащих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обровская Е.А. зам.д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Лицей «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обровская Е.А., зам.дир. МОУ «Лицей «Эрудит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Инновации в преподавании общеобразовательных предметов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олмачева Н.П. , уч.информ. и ИКТ, Довбня Г.В., уч. нем. языка   МОУ СОШ  №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моленцев А.В., уч. биологии МОУ «Гимназия №3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189000"/>
          <a:ext cx="8713800" cy="6480000"/>
        </p:xfrm>
        <a:graphic>
          <a:graphicData uri="http://schemas.openxmlformats.org/drawingml/2006/table">
            <a:tbl>
              <a:tblPr/>
              <a:tblGrid>
                <a:gridCol w="2479680"/>
                <a:gridCol w="2220840"/>
                <a:gridCol w="401328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мин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пломом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Воспитательные системы, проекты, программ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уководители и творческие коллективы Гончарова Т.В. директор, МОУ СОШ №24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копович Н.Н. директор,  МОУ КСОШ №2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Инновации в управлении образованием на муниципальном  и окружном уровнях»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рофеев К.В.,  уч.информатики МОУ «Лицей «Эруд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Инновационный опыт освоения современного дошкольного образов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дагогические  коллектив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 руководители МДОУ №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,№ 14, 35, «Исток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дагогические  коллектив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 руководители М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46 , 8,  56 , МОУ гимназия «Планета Детства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Развитие дополнительного образования детей в современных условия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е  коллективы МОУ ДОД «ЦРТДиЮ»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ЦВР «Малая Академия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ДОД «ЦРТДиЮ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89000"/>
          <a:ext cx="8713800" cy="6581520"/>
        </p:xfrm>
        <a:graphic>
          <a:graphicData uri="http://schemas.openxmlformats.org/drawingml/2006/table">
            <a:tbl>
              <a:tblPr/>
              <a:tblGrid>
                <a:gridCol w="2297160"/>
                <a:gridCol w="2178000"/>
                <a:gridCol w="2271600"/>
                <a:gridCol w="1967040"/>
              </a:tblGrid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ми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Победи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ам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лагодар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Методический видеомоду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№7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«Лицей 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Видеосюжет»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№47 «Елоч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Учебный видеофиль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й коллек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У Лицей «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Методический видеофиль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й коллек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д рук.  Камзоловой А.А., зав. МДОУ № 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Методический видеомоду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е коллектив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  №19 . МДОУ  №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  №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«Видеосюже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торский коллект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ДОУ   №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озовая В.М. зам. зав. МДОУ   №6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усихин А.И., учитель информатики МОУ СОШ№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ЭП МОУ «СОШ №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Особенности содержания кадетского образования в условиях МОУ «СОШ №10» Кадетский корпус юных спасател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ЭП МОУ «Гимназия №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Культуротворческий подход в современном образовании как один из факторов развития учреж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ЭП МОУ «Гимназия №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Организация работы группы кратковременного пребывания (ГКП) на базу гимназии №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ЭП, ФЭП МОУ «Лицей «Эру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Повышение качества образования в лицее на основе компетентностного подх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80880" y="380880"/>
            <a:ext cx="8439120" cy="399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годня для многих семей решающим при выборе места жительства становится у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фактор наличия  рядом здания с табличкой «школа»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 возможность обеспечить детям образование современного качест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56360" y="4653000"/>
            <a:ext cx="26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. 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Модернизация школьных столо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2008/2009 гг. полностью переоснащены 8 школьных столо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ступило оборудование на сумму 4278,0 тыс. руб., в том числе принципиально новое для школьных столов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ароконвектомат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армит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ногофункциональные пекарские шкаф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стройства для очищения и смягчения воды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осудомоечны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348000" y="465300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097440" cy="232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300720" y="400536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Победители конкурса лучших учителей на получение денежного поощрения Президент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9612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Список побе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100 тысяч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1. Воронова Тамара Николаевна - учитель информатики, МОУ «СОШ № 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2. Шиллер Ольга Ивановна - учитель физики, МОУ «Гимназия № 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3. Бобровская Елена Васильевна - учитель биологии, эк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Лицей «Эру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4. Смоленцев Александр Васильевич - учитель биологии, эк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Гимназия № 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5. Прохватилов Анатолий Михайлович - учитель математ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Лицей» (при Р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6. Бас Любовь Ивановна - учитель истории, МОУ «Гимназия № 8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7. Дик Вера Алексеевна - учитель русского языка и лит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СОШ № 6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8. Шинкоренко Елена Владимировна - 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Гимназия «Планета Дет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9. Кожевникова Лариса Дмитриевна - 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ОУ «СОШ № 24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ват летним отдых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2133720"/>
          <a:ext cx="8229600" cy="3730680"/>
        </p:xfrm>
        <a:graphic>
          <a:graphicData uri="http://schemas.openxmlformats.org/drawingml/2006/table">
            <a:tbl>
              <a:tblPr/>
              <a:tblGrid>
                <a:gridCol w="1235160"/>
                <a:gridCol w="1800000"/>
                <a:gridCol w="1727280"/>
                <a:gridCol w="1728720"/>
                <a:gridCol w="1738440"/>
              </a:tblGrid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его учащихся 1-10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хвачены летним отдых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лозатратные 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рудоустро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щее количество отдохнвих и занятых общ-кол. тру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290 че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07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58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34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Охват дошкольным образованием</a:t>
            </a:r>
            <a:br>
              <a:rPr sz="36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 29 ДОУ – 5039 детей. Охват дошкольным образованием составляет 67%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569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НЕЖНАЯ КОМПЕНСАЦИЯ РОДИТЕЛЬСКОЙ ДОЛИ В ДОШКОЛЬНЫХ ОБРАЗОВАТЕЛЬНЫХ УЧРЕЖД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5157720"/>
            <a:ext cx="8856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ЕДНЕЕ ЧИСЛО ПОЛУЧАТЕЛЕЙ КОМПЕНСАЦИ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395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ЕДНЯЯ СУММА РОДИТЕЛЬСКОЙ ПЛАТЫ В МЕСЯЦ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865,0 Т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ЕДНЯЯ СУММА КОМПЕНСАЦИ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МЕСЯЦ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827,7 Т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снование: Отчет о расходах бюджета за 1 квартал 200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628640"/>
          <a:ext cx="8713800" cy="3508560"/>
        </p:xfrm>
        <a:graphic>
          <a:graphicData uri="http://schemas.openxmlformats.org/drawingml/2006/table">
            <a:tbl>
              <a:tblPr/>
              <a:tblGrid>
                <a:gridCol w="361800"/>
                <a:gridCol w="1222560"/>
                <a:gridCol w="1296720"/>
                <a:gridCol w="1079640"/>
                <a:gridCol w="1081080"/>
                <a:gridCol w="1079640"/>
                <a:gridCol w="1368360"/>
                <a:gridCol w="1224000"/>
              </a:tblGrid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ИСЛО ДЕТЕЙ В СЕМ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ЕДНЕЕ ЧИСЛО РАБОЧИХ ДН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ПЛАТЫ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МЕР ОПЛАТЫ В МЕСЯ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МПЕН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ОЛЯ РОДИТЕЛЕЙ В ОПЛАТЕ ЗА ДЕТСА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ОЛЯ ГОСУДАР</a:t>
                      </a: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ТВА В ОПЛАТЕ ЗА ДЕТСА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ДИН РЕБЕН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4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ДВОЕ ДЕ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2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2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РОЕ ДЕ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50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1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35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начительно улучшились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условия пребывания и обучения в школах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143000"/>
            <a:ext cx="8321760" cy="30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Значительно улучшилась материально-техническая оснащенность ш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се МО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ы АП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одернизиру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За 2008-2009 год средства, выделяемые из краевого бюджета 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расходы  возросли 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рганизована устойчивая  работа шко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т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МОУ создан с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04920" y="4343400"/>
            <a:ext cx="839772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5 до 55% увеличилась доля детей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в школах, соответствующим современ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 городе наблюдается устойчивая тенденция 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школьнообусловленных заболе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6033960" cy="452628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87" name=""/>
          <p:cNvSpPr txBox="1"/>
          <p:nvPr/>
        </p:nvSpPr>
        <p:spPr>
          <a:xfrm rot="20700600">
            <a:off x="1042920" y="1125360"/>
            <a:ext cx="7240680" cy="18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Молодцы, лицеист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228600" y="152280"/>
          <a:ext cx="8381880" cy="670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280"/>
                    <a:ext cx="83818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роительство и восстановление зданий дошкольных образовательных учреждений. Снижение очередности в ДОУ практически не сни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ешение кадровых проблем. Привлечение молодых специалистов в сферу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Эффективное использование имеющейся материально-технической базы с целью повышения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11280" y="476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решенные проблем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эффективное использование созданных в ходе реализации ПНПО и КПМО возможностей, в том числе, информационных, современного учебного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недрение НСОТ, повышение заработной платы педагогов и руководителей не всегда жестко увязано с повышением качеств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решенные проблем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852640"/>
            <a:ext cx="748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СПАСИБО</a:t>
            </a:r>
            <a:br>
              <a:rPr sz="7200"/>
            </a:b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ЗА</a:t>
            </a:r>
            <a:br>
              <a:rPr sz="7200"/>
            </a:b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ВНИМАНИЕ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4000"/>
            <a:ext cx="91440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Победители конкурса лучших учителей на получение денежного поощрения Президент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932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Список побе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30 тысяч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 Серикова Юлия Николаевна - педагог доп. образования, ДЮ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2. Ерофеев Константин Владимирович - учитель информат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ОУ «Лицей «Эру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3. Соколова Людмила Васильевна - учитель истории, МОУ «Лицей «Эруд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4. Токмакова Ольга Владимировна - заместитель директора по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MP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ДОУ «Детский сад № 57 «Аленуш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 Храмченко Елена Анатольевна - воспитат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ДОУ «Детский сад № 46 «Светляч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 Булгакова Ольга Николаевна - педагог доп. образов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ЦВР «Малая Академ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7. Садовникова Раиса Дмитриевна –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ДОУ «Детский сад № 8 «Крепы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8. Веревкина Валентина Ивановна - учитель ручного труда, СКОШИ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Times New Roman"/>
              </a:rPr>
              <a:t>КПМ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00280"/>
          <a:ext cx="8569080" cy="4744800"/>
        </p:xfrm>
        <a:graphic>
          <a:graphicData uri="http://schemas.openxmlformats.org/drawingml/2006/table">
            <a:tbl>
              <a:tblPr/>
              <a:tblGrid>
                <a:gridCol w="1152360"/>
                <a:gridCol w="1306440"/>
                <a:gridCol w="2149560"/>
                <a:gridCol w="1101960"/>
                <a:gridCol w="2139840"/>
                <a:gridCol w="718920"/>
              </a:tblGrid>
              <a:tr h="874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ступило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сходование средст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нащ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мо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8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56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3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362 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65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70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.р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12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. руб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6216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. руб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5043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. руб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ведение новой системы оплаты труда работников общего образования, направленной на повышение доходов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ход на нормативное подушевое финансирование общеобразовательных учреж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региональной системы оценки качества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сети общеобразовательных учреждений региона, обеспечение условий для получения качественного общего образования независимо от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сширение общественного участия в управлении образ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Заработная плата по НС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2133720"/>
          <a:ext cx="8642160" cy="3889080"/>
        </p:xfrm>
        <a:graphic>
          <a:graphicData uri="http://schemas.openxmlformats.org/drawingml/2006/table">
            <a:tbl>
              <a:tblPr/>
              <a:tblGrid>
                <a:gridCol w="1857240"/>
                <a:gridCol w="1500120"/>
                <a:gridCol w="1570320"/>
                <a:gridCol w="1338120"/>
                <a:gridCol w="1090440"/>
                <a:gridCol w="1285920"/>
              </a:tblGrid>
              <a:tr h="130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до введения НСО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ирек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1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1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538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 1,4 р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727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иним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2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698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134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17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6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ля Ф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5,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Заработная плата по сравнению с 2008 годом увелич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Уменьшился разрыв в размерах оплаты труда учителей, имеющих большой стаж педагогической работы, и молодых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Происходит оптимизация численности педагогических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. Происходит ощутимая дифференциация заработных плат педагогов внутри педагогического коллектива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. Активизировалось обсуждение качества образования и показателей качества в педагогической среде. К этому обсуждению активно привлекается обще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. Устанавливается открытость и прозрачность управления образовательными системами в результате участия представителей общественности в оценке труда учителей и руководителей муниципальными общеобразовательными учрежд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ведение новой системы оплаты труда работников общего образования, направленной на повышение доходов уч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ход на нормативное подушевое финансирование общеобразовательных учреж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региональной системы оценки качества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звитие сети общеобразовательных учреждений региона, обеспечение условий для получения качественного общего образования независимо от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асширение общественного участия в управлении образ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ЕГ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Русский язык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Рейтинг по краю –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5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аивысший балл «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96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» в школах №№ 1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Математика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Рейтинг по краю –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20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аивысший балл «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79-8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» в МОУ «Лицей» (при РИИ) и МОУ «Гимназия №8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2:27:35Z</dcterms:created>
  <dc:creator>mmx</dc:creator>
  <dc:description/>
  <dc:language>en-US</dc:language>
  <cp:lastModifiedBy>Admin</cp:lastModifiedBy>
  <dcterms:modified xsi:type="dcterms:W3CDTF">2009-08-26T08:40:05Z</dcterms:modified>
  <cp:revision>5</cp:revision>
  <dc:subject/>
  <dc:title>Расчет объема субвенции на обеспечение государственных гарантий граждан на получение общего образования в общеобразовательных учреждениях на 2009 год.</dc:title>
</cp:coreProperties>
</file>